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9AF0-C65B-43E0-BCA2-0D8E10BC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FACB-79F5-48F1-B524-C3D5D21E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9DEA-38A1-44FD-B964-B11486276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AC74-0C9E-4357-AA13-6A55D7DF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A1AA-8920-4B54-9489-221138E4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F4E5-D080-457C-BE16-D92E85A5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629A-4A7F-4BB1-9DEA-859DA4CA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FE84-36F1-4DC0-BB9D-08CCC687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CEC4-2A83-457D-B514-858DDCFA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0C7B-B12F-4A8E-8BC6-8C5B778D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7A2A-A14D-41A9-9BA3-3107C6FB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CD3E-FAEE-4EAD-BE44-DACDBDF4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0183-4215-456C-B2E1-82CDEBC594F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2360" y="1773360"/>
            <a:ext cx="8640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رتفع أبصارهم دون أن تطرف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سرع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رافعي رؤوسهم إلى السم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363600" y="1052640"/>
            <a:ext cx="852948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9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421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324000" y="4797360"/>
            <a:ext cx="8569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يتكلم عن الكافرين الظا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3" descr=""/>
          <p:cNvPicPr/>
          <p:nvPr/>
        </p:nvPicPr>
        <p:blipFill>
          <a:blip r:embed="rId3"/>
          <a:stretch/>
        </p:blipFill>
        <p:spPr>
          <a:xfrm>
            <a:off x="4103640" y="1052640"/>
            <a:ext cx="4789440" cy="64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"/>
          <p:cNvPicPr/>
          <p:nvPr/>
        </p:nvPicPr>
        <p:blipFill>
          <a:blip r:embed="rId4"/>
          <a:stretch/>
        </p:blipFill>
        <p:spPr>
          <a:xfrm>
            <a:off x="2262240" y="2492280"/>
            <a:ext cx="6640560" cy="533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"/>
          <p:cNvPicPr/>
          <p:nvPr/>
        </p:nvPicPr>
        <p:blipFill>
          <a:blip r:embed="rId5"/>
          <a:stretch/>
        </p:blipFill>
        <p:spPr>
          <a:xfrm>
            <a:off x="1487520" y="4076640"/>
            <a:ext cx="7415280" cy="58428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324000" y="314172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له ليمهل للظالم حتى إذا أخذه لم يفل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324000" y="170028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صرف العبادة لغير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50"/>
          <a:stretch/>
        </p:blipFill>
        <p:spPr>
          <a:xfrm>
            <a:off x="290520" y="2205000"/>
            <a:ext cx="86025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0" y="-7920"/>
            <a:ext cx="914400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2884320" y="4819680"/>
            <a:ext cx="35179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79280" y="1020600"/>
            <a:ext cx="881712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8713800" cy="453528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371520" y="413064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رافعي رؤوسهم إلى السم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395280" y="613080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ث بعد المو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3"/>
          <a:stretch/>
        </p:blipFill>
        <p:spPr>
          <a:xfrm>
            <a:off x="-15840" y="981000"/>
            <a:ext cx="9105840" cy="93528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6480" y="1179360"/>
            <a:ext cx="37018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عاقبة الكافرين المكذبين يوم القيامة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465300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لوبهم خالية من العقل لفزع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62608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لفتم في الدني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95280" y="51577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خوف الكف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179280" y="14842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ظل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89000" y="2043000"/>
            <a:ext cx="8665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اقبة الظالم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2492280"/>
            <a:ext cx="8666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تعالى عال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كل شيء لا تخفى عليه خافية غير غافل عن أعماله عباده بل يعلمها ويحصيها عليهم ويحاسبهم عليها يوم القيا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0680" y="3357720"/>
            <a:ext cx="8666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ال يوم القيامة على الكافرين المكذ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شدة يوم القيامة عليهم وما سيكونون عليه من الذلة والصغ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203720"/>
            <a:ext cx="866628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ال الكافرين المكذبين يوم القيام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دم حتى إنهم يتمنون العودة إلى الدنيا مرة أخرى ليؤمنوا وما هم بمؤمن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49068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كر الكافرين والمكذ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ظيم حتى إنه من شدته وخبثه يكاد يزيل الجبال عن أماكن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3910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رة الله تعالى على إبطا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ر الكافرين مهما خفي وأُحك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204840" y="1700280"/>
            <a:ext cx="8640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بأنهم حلفوا في الدنيا أنه لا بعث يوم القيا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أنهم سكنوا مساكن الظا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ه عرفوا ماذا فعل الله بالظا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ذكر الله لهم الأمثال ولم يأخذوا منها العب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87328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252360" y="1844640"/>
            <a:ext cx="86407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نذار والتبشي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3"/>
          <a:stretch/>
        </p:blipFill>
        <p:spPr>
          <a:xfrm>
            <a:off x="392040" y="1039680"/>
            <a:ext cx="856296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8T09:00:33Z</dcterms:modified>
  <cp:revision>1865</cp:revision>
  <dc:subject/>
  <dc:title>عرض تقديمي في PowerPoint</dc:title>
</cp:coreProperties>
</file>